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0.png" ContentType="image/png"/>
  <Override PartName="/ppt/media/image25.pct" ContentType="image/x-pict"/>
  <Override PartName="/ppt/media/image16.png" ContentType="image/png"/>
  <Override PartName="/ppt/media/image5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 rot="21492000">
            <a:off x="469440" y="5689440"/>
            <a:ext cx="10160280" cy="254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622440" y="2349360"/>
            <a:ext cx="11760120" cy="41911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Click to edit the outline text format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1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con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2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Thir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3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our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4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if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5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ix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6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ven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70080" y="2654280"/>
            <a:ext cx="487656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70080" y="4991040"/>
            <a:ext cx="4876560" cy="180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Click to edit the outline text format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1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con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2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Thir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3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our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4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if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5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ix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6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ven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7" name="" descr=""/>
          <p:cNvPicPr/>
          <p:nvPr/>
        </p:nvPicPr>
        <p:blipFill>
          <a:blip r:embed="rId7"/>
          <a:stretch/>
        </p:blipFill>
        <p:spPr>
          <a:xfrm>
            <a:off x="622440" y="2781360"/>
            <a:ext cx="11760120" cy="41911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3212640"/>
            <a:ext cx="10464840" cy="344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0" name="" descr=""/>
          <p:cNvPicPr/>
          <p:nvPr/>
        </p:nvPicPr>
        <p:blipFill>
          <a:blip r:embed="rId7"/>
          <a:stretch/>
        </p:blipFill>
        <p:spPr>
          <a:xfrm rot="21492000">
            <a:off x="469440" y="5689440"/>
            <a:ext cx="10160280" cy="2540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8"/>
          <a:stretch/>
        </p:blipFill>
        <p:spPr>
          <a:xfrm>
            <a:off x="622440" y="2349360"/>
            <a:ext cx="11760120" cy="41911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9"/>
          <a:stretch/>
        </p:blipFill>
        <p:spPr>
          <a:xfrm>
            <a:off x="1384200" y="927000"/>
            <a:ext cx="6451560" cy="19940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Click to edit the outline text format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1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con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2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Thir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3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our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4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if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5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ix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6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ven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1269720" y="1510920"/>
            <a:ext cx="104648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35748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4800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83160" indent="-35712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1868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6144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552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94320" indent="-36108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338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70080" y="29714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268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4860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737280" indent="-2678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98892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240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240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240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781320" y="29714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268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4860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737280" indent="-2678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98892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240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240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240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6144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552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94320" indent="-36108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338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270080" y="29714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268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4860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737280" indent="-2678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98892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240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240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240200" indent="-26820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6222960"/>
            <a:ext cx="1046484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Click to edit the title text format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69720" y="7695720"/>
            <a:ext cx="104648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Click to edit the outline text format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1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con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2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Third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3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our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4" algn="ctr">
              <a:buClr>
                <a:srgbClr val="b2312c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Fif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5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ix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  <a:p>
            <a:pPr lvl="6" algn="ctr">
              <a:buClr>
                <a:srgbClr val="004e74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Seventh Outline Level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 rot="21498000">
            <a:off x="1635120" y="6837480"/>
            <a:ext cx="8381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6c8c"/>
                </a:solidFill>
                <a:latin typeface="Marker Felt"/>
                <a:ea typeface="Marker Felt"/>
              </a:rPr>
              <a:t>Quick Colour Effects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f1f1f"/>
                </a:solidFill>
                <a:latin typeface="Georgia"/>
              </a:rPr>
              <a:t>Unit 8.2</a:t>
            </a:r>
            <a:endParaRPr b="0" i="1" lang="en-US" sz="7200" spc="-1" strike="noStrike">
              <a:solidFill>
                <a:srgbClr val="1f1f1f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2312c"/>
                </a:solidFill>
                <a:latin typeface="Georgia"/>
              </a:rPr>
              <a:t>Lesson 2</a:t>
            </a:r>
            <a:endParaRPr b="0" i="1" lang="en-US" sz="3800" spc="-1" strike="noStrike">
              <a:solidFill>
                <a:srgbClr val="b2312c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Summary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What feature has been used here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3327480" y="4152960"/>
            <a:ext cx="6350040" cy="45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Summary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What feature has been used here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3327480" y="416556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Summary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What feature has been used here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673520" y="392436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Summary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What feature has been used here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3327480" y="400068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all My Bluff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What is ‘Selective Colouring’?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7" name=""/>
          <p:cNvSpPr/>
          <p:nvPr/>
        </p:nvSpPr>
        <p:spPr>
          <a:xfrm>
            <a:off x="1905120" y="5549760"/>
            <a:ext cx="980424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Turning any red objects into purple objects (or something similar) 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8" name=""/>
          <p:cNvSpPr/>
          <p:nvPr/>
        </p:nvSpPr>
        <p:spPr>
          <a:xfrm>
            <a:off x="1909800" y="6813720"/>
            <a:ext cx="98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Making a picture black and white, except for one objec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9" name=""/>
          <p:cNvSpPr/>
          <p:nvPr/>
        </p:nvSpPr>
        <p:spPr>
          <a:xfrm>
            <a:off x="1906560" y="4299120"/>
            <a:ext cx="980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Turning any red objects (for example) black and white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all My Bluff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What is the ‘magic wand’ tool?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5549760"/>
            <a:ext cx="980424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A tool used to suck the colour out of a picture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3" name=""/>
          <p:cNvSpPr/>
          <p:nvPr/>
        </p:nvSpPr>
        <p:spPr>
          <a:xfrm>
            <a:off x="1909800" y="6813720"/>
            <a:ext cx="98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A way of saving your work in the righ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4" name=""/>
          <p:cNvSpPr/>
          <p:nvPr/>
        </p:nvSpPr>
        <p:spPr>
          <a:xfrm>
            <a:off x="1906560" y="4559400"/>
            <a:ext cx="980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A way of selecting an area of colour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all My Bluff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341280" indent="-341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What is the term for “An outline that appears dark against a light background”?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7" name=""/>
          <p:cNvSpPr/>
          <p:nvPr/>
        </p:nvSpPr>
        <p:spPr>
          <a:xfrm>
            <a:off x="1905120" y="5810400"/>
            <a:ext cx="98042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A silhouette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8" name=""/>
          <p:cNvSpPr/>
          <p:nvPr/>
        </p:nvSpPr>
        <p:spPr>
          <a:xfrm>
            <a:off x="1909800" y="7074000"/>
            <a:ext cx="98042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A gradien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9" name=""/>
          <p:cNvSpPr/>
          <p:nvPr/>
        </p:nvSpPr>
        <p:spPr>
          <a:xfrm>
            <a:off x="1906560" y="4559400"/>
            <a:ext cx="980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8732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A colour mask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Lesson Objectives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74"/>
                </a:solidFill>
                <a:latin typeface="Georgia"/>
              </a:rPr>
              <a:t>What:</a:t>
            </a: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 Use simple colour effects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74"/>
                </a:solidFill>
                <a:latin typeface="Georgia"/>
              </a:rPr>
              <a:t>How:</a:t>
            </a: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 Using a graphics package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74"/>
                </a:solidFill>
                <a:latin typeface="Georgia"/>
              </a:rPr>
              <a:t>Why:</a:t>
            </a: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 Simple, but effective techniques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Selective Colour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2971800"/>
            <a:ext cx="104648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urns a colour picture,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Into a picture with FOCUS!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9105840" y="2603520"/>
            <a:ext cx="2743200" cy="279864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7008840" y="5562720"/>
            <a:ext cx="4700520" cy="33271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1317600" y="5486400"/>
            <a:ext cx="4829040" cy="3263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Task 1 - Selective Colour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llow the tutorial from the VLE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Use the pictures you collected last week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ave in an appropriate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Upload to the VLE when done (up to 3 examples)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Silhouette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71" name="Presentation.ppt_media/Apple_-_iPod__silhouette_Rollerskates_Gorillaz_2005.mov" descr=""/>
          <p:cNvPicPr/>
          <p:nvPr/>
        </p:nvPicPr>
        <p:blipFill>
          <a:blip r:embed="rId2"/>
          <a:stretch/>
        </p:blipFill>
        <p:spPr>
          <a:xfrm>
            <a:off x="2362320" y="271764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Task 2 - Silhouette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llow the tutorial from the VLE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Use the pictures you collected last week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ave in an appropriate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Upload to the VLE when done (up to 3 examples)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 Clarkson</cp:lastModifiedBy>
  <dcterms:modified xsi:type="dcterms:W3CDTF">2009-04-08T11:13:16Z</dcterms:modified>
  <cp:revision>1</cp:revision>
  <dc:subject/>
  <dc:title>Unit 8.2</dc:title>
</cp:coreProperties>
</file>