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ct" ContentType="image/x-pict"/>
  <Override PartName="/ppt/media/image7.png" ContentType="image/png"/>
  <Override PartName="/ppt/media/image5.pct" ContentType="image/x-pict"/>
  <Override PartName="/ppt/media/image6.pct" ContentType="image/x-pict"/>
  <Override PartName="/ppt/media/image9.png" ContentType="image/png"/>
  <Override PartName="/ppt/media/image8.pct" ContentType="image/x-pict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63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04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05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44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45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22000" y="7861320"/>
            <a:ext cx="1054116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0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84120" indent="-38412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734400" indent="-38412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2" marL="1130040" indent="-3844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3" marL="1526040" indent="-3844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4" marL="1921320" indent="-38412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5" marL="1921320" indent="-38412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6" marL="1921320" indent="-38412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422000" y="3568320"/>
            <a:ext cx="10541160" cy="2629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63" name=""/>
          <p:cNvSpPr/>
          <p:nvPr/>
        </p:nvSpPr>
        <p:spPr>
          <a:xfrm>
            <a:off x="277200" y="835668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body"/>
          </p:nvPr>
        </p:nvSpPr>
        <p:spPr>
          <a:xfrm>
            <a:off x="367920" y="9016920"/>
            <a:ext cx="10845720" cy="43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title"/>
          </p:nvPr>
        </p:nvSpPr>
        <p:spPr>
          <a:xfrm>
            <a:off x="367920" y="8368920"/>
            <a:ext cx="10845720" cy="66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42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03" name=""/>
          <p:cNvSpPr/>
          <p:nvPr/>
        </p:nvSpPr>
        <p:spPr>
          <a:xfrm>
            <a:off x="277200" y="835668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body"/>
          </p:nvPr>
        </p:nvSpPr>
        <p:spPr>
          <a:xfrm>
            <a:off x="367920" y="9016920"/>
            <a:ext cx="10845720" cy="43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title"/>
          </p:nvPr>
        </p:nvSpPr>
        <p:spPr>
          <a:xfrm>
            <a:off x="367920" y="8368920"/>
            <a:ext cx="10845720" cy="66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42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43" name=""/>
          <p:cNvSpPr/>
          <p:nvPr/>
        </p:nvSpPr>
        <p:spPr>
          <a:xfrm>
            <a:off x="277200" y="835668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body"/>
          </p:nvPr>
        </p:nvSpPr>
        <p:spPr>
          <a:xfrm>
            <a:off x="367920" y="9016920"/>
            <a:ext cx="10845720" cy="43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title"/>
          </p:nvPr>
        </p:nvSpPr>
        <p:spPr>
          <a:xfrm>
            <a:off x="367920" y="8368920"/>
            <a:ext cx="10845720" cy="66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42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83" name=""/>
          <p:cNvSpPr/>
          <p:nvPr/>
        </p:nvSpPr>
        <p:spPr>
          <a:xfrm>
            <a:off x="277200" y="835668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body"/>
          </p:nvPr>
        </p:nvSpPr>
        <p:spPr>
          <a:xfrm>
            <a:off x="367920" y="9016920"/>
            <a:ext cx="10845720" cy="43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title"/>
          </p:nvPr>
        </p:nvSpPr>
        <p:spPr>
          <a:xfrm>
            <a:off x="367920" y="8368920"/>
            <a:ext cx="10845720" cy="66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42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body"/>
          </p:nvPr>
        </p:nvSpPr>
        <p:spPr>
          <a:xfrm>
            <a:off x="1422000" y="8115120"/>
            <a:ext cx="10845720" cy="74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3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Click to edit the outline text format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1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Second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2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Third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3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Four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4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Fif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Six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Seven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23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24" name=""/>
          <p:cNvSpPr/>
          <p:nvPr/>
        </p:nvSpPr>
        <p:spPr>
          <a:xfrm>
            <a:off x="277200" y="891540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25" name=""/>
          <p:cNvSpPr/>
          <p:nvPr/>
        </p:nvSpPr>
        <p:spPr>
          <a:xfrm>
            <a:off x="5256360" y="8902800"/>
            <a:ext cx="0" cy="59688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26" name=""/>
          <p:cNvSpPr/>
          <p:nvPr/>
        </p:nvSpPr>
        <p:spPr>
          <a:xfrm>
            <a:off x="277200" y="718812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title"/>
          </p:nvPr>
        </p:nvSpPr>
        <p:spPr>
          <a:xfrm>
            <a:off x="1422000" y="7099200"/>
            <a:ext cx="10845720" cy="102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body"/>
          </p:nvPr>
        </p:nvSpPr>
        <p:spPr>
          <a:xfrm>
            <a:off x="1422000" y="8115120"/>
            <a:ext cx="10845720" cy="74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3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Click to edit the outline text format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1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Second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2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Third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3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Four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4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Fif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Six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Seven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65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66" name=""/>
          <p:cNvSpPr/>
          <p:nvPr/>
        </p:nvSpPr>
        <p:spPr>
          <a:xfrm>
            <a:off x="277200" y="891540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67" name=""/>
          <p:cNvSpPr/>
          <p:nvPr/>
        </p:nvSpPr>
        <p:spPr>
          <a:xfrm>
            <a:off x="5256360" y="8902800"/>
            <a:ext cx="0" cy="59688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68" name=""/>
          <p:cNvSpPr/>
          <p:nvPr/>
        </p:nvSpPr>
        <p:spPr>
          <a:xfrm>
            <a:off x="277200" y="718812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title"/>
          </p:nvPr>
        </p:nvSpPr>
        <p:spPr>
          <a:xfrm>
            <a:off x="1422000" y="7099200"/>
            <a:ext cx="10845720" cy="102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07" name=""/>
          <p:cNvSpPr/>
          <p:nvPr/>
        </p:nvSpPr>
        <p:spPr>
          <a:xfrm>
            <a:off x="277200" y="835668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body"/>
          </p:nvPr>
        </p:nvSpPr>
        <p:spPr>
          <a:xfrm>
            <a:off x="367920" y="9016920"/>
            <a:ext cx="10845720" cy="43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title"/>
          </p:nvPr>
        </p:nvSpPr>
        <p:spPr>
          <a:xfrm>
            <a:off x="367920" y="8368920"/>
            <a:ext cx="10845720" cy="66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42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384120" indent="-38412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734400" indent="-38412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2" marL="1130040" indent="-3844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3" marL="1526040" indent="-3844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4" marL="1921320" indent="-38412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5" marL="1921320" indent="-38412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6" marL="1921320" indent="-38412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1041480" y="2768400"/>
            <a:ext cx="53337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33228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63540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2" marL="977760" indent="-33264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3" marL="1320120" indent="-33264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4" marL="166212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5" marL="1662120" indent="-33228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6" marL="1662120" indent="-33228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1041480" y="2768400"/>
            <a:ext cx="53337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33228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63540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2" marL="977760" indent="-33264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3" marL="1320120" indent="-33264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4" marL="166212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5" marL="1662120" indent="-33228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6" marL="1662120" indent="-33228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1041480" y="4876560"/>
            <a:ext cx="533376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5000"/>
          </a:bodyPr>
          <a:p>
            <a:pPr indent="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lnSpc>
                <a:spcPct val="110000"/>
              </a:lnSpc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lnSpc>
                <a:spcPct val="110000"/>
              </a:lnSpc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lnSpc>
                <a:spcPct val="110000"/>
              </a:lnSpc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lnSpc>
                <a:spcPct val="110000"/>
              </a:lnSpc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lnSpc>
                <a:spcPct val="110000"/>
              </a:lnSpc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lnSpc>
                <a:spcPct val="110000"/>
              </a:lnSpc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629040" y="2768400"/>
            <a:ext cx="53341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33228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63540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2" marL="977760" indent="-33264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3" marL="1320120" indent="-33264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4" marL="166212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5" marL="1662120" indent="-33228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6" marL="1662120" indent="-33228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1041120" y="1472760"/>
            <a:ext cx="10922040" cy="6807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384120" indent="-384120">
              <a:spcBef>
                <a:spcPts val="47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734400" indent="-384120">
              <a:spcBef>
                <a:spcPts val="47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2" marL="1130040" indent="-384480">
              <a:spcBef>
                <a:spcPts val="47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3" marL="1526040" indent="-384480">
              <a:spcBef>
                <a:spcPts val="47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4" marL="1921320" indent="-384120">
              <a:spcBef>
                <a:spcPts val="47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5" marL="1921320" indent="-384120">
              <a:spcBef>
                <a:spcPts val="4799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6" marL="1921320" indent="-384120">
              <a:spcBef>
                <a:spcPts val="4799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d5d4d6"/>
                </a:solidFill>
                <a:latin typeface="Helvetica Neue Bold Condensed"/>
              </a:rPr>
              <a:t>Unit 8.2 - Image Editing</a:t>
            </a: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1054116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Lesson 1 - Introduction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Summary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Name four graphics packages you can use for free!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88" name=""/>
          <p:cNvSpPr/>
          <p:nvPr/>
        </p:nvSpPr>
        <p:spPr>
          <a:xfrm>
            <a:off x="8763120" y="5252760"/>
            <a:ext cx="30258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THE GIMP</a:t>
            </a:r>
            <a:endParaRPr b="0" lang="en-US" sz="3200" spc="-1" strike="noStrike">
              <a:solidFill>
                <a:srgbClr val="4a7594"/>
              </a:solidFill>
              <a:latin typeface="Helvetica Neue Bold Condens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(OPEN SOURCE)</a:t>
            </a:r>
            <a:endParaRPr b="0" lang="en-US" sz="3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89" name=""/>
          <p:cNvSpPr/>
          <p:nvPr/>
        </p:nvSpPr>
        <p:spPr>
          <a:xfrm>
            <a:off x="1084680" y="5252760"/>
            <a:ext cx="38520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KSCAPE</a:t>
            </a:r>
            <a:endParaRPr b="0" lang="en-US" sz="3200" spc="-1" strike="noStrike">
              <a:solidFill>
                <a:srgbClr val="4a7594"/>
              </a:solidFill>
              <a:latin typeface="Helvetica Neue Bold Condens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(VECTOR GRAPHICS)</a:t>
            </a:r>
            <a:endParaRPr b="0" lang="en-US" sz="3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90" name=""/>
          <p:cNvSpPr/>
          <p:nvPr/>
        </p:nvSpPr>
        <p:spPr>
          <a:xfrm>
            <a:off x="2637360" y="7843680"/>
            <a:ext cx="346464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PAINT.NET</a:t>
            </a:r>
            <a:br>
              <a:rPr sz="3200"/>
            </a:br>
            <a:r>
              <a:rPr b="0" lang="en-US" sz="32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(WINDOWS ONLY)</a:t>
            </a:r>
            <a:endParaRPr b="0" lang="en-US" sz="3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91" name=""/>
          <p:cNvSpPr/>
          <p:nvPr/>
        </p:nvSpPr>
        <p:spPr>
          <a:xfrm>
            <a:off x="7119000" y="7843680"/>
            <a:ext cx="29358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UMO PAINT</a:t>
            </a:r>
            <a:endParaRPr b="0" lang="en-US" sz="3200" spc="-1" strike="noStrike">
              <a:solidFill>
                <a:srgbClr val="4a7594"/>
              </a:solidFill>
              <a:latin typeface="Helvetica Neue Bold Condens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(ONLINE ONLY)</a:t>
            </a:r>
            <a:endParaRPr b="0" lang="en-US" sz="3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Starter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Name as many ‘graphics’ packages as you can think of...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50" name=""/>
          <p:cNvSpPr/>
          <p:nvPr/>
        </p:nvSpPr>
        <p:spPr>
          <a:xfrm>
            <a:off x="642960" y="5382000"/>
            <a:ext cx="3975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ADOBE PHOTOSHOP</a:t>
            </a:r>
            <a:endParaRPr b="0" lang="en-US" sz="3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51" name=""/>
          <p:cNvSpPr/>
          <p:nvPr/>
        </p:nvSpPr>
        <p:spPr>
          <a:xfrm>
            <a:off x="10028880" y="4759920"/>
            <a:ext cx="1914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KSCAPE</a:t>
            </a:r>
            <a:endParaRPr b="0" lang="en-US" sz="3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52" name=""/>
          <p:cNvSpPr/>
          <p:nvPr/>
        </p:nvSpPr>
        <p:spPr>
          <a:xfrm>
            <a:off x="2018160" y="7058520"/>
            <a:ext cx="19087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THE GIMP</a:t>
            </a:r>
            <a:endParaRPr b="0" lang="en-US" sz="3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53" name=""/>
          <p:cNvSpPr/>
          <p:nvPr/>
        </p:nvSpPr>
        <p:spPr>
          <a:xfrm>
            <a:off x="1922760" y="8557200"/>
            <a:ext cx="3727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ADOBE FIREWORKS</a:t>
            </a:r>
            <a:endParaRPr b="0" lang="en-US" sz="3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54" name=""/>
          <p:cNvSpPr/>
          <p:nvPr/>
        </p:nvSpPr>
        <p:spPr>
          <a:xfrm>
            <a:off x="9020520" y="7808040"/>
            <a:ext cx="2052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PAINT.NET</a:t>
            </a:r>
            <a:endParaRPr b="0" lang="en-US" sz="3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55" name=""/>
          <p:cNvSpPr/>
          <p:nvPr/>
        </p:nvSpPr>
        <p:spPr>
          <a:xfrm>
            <a:off x="5857200" y="5572800"/>
            <a:ext cx="36036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MICROSOFT PAINT</a:t>
            </a:r>
            <a:endParaRPr b="0" lang="en-US" sz="3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56" name=""/>
          <p:cNvSpPr/>
          <p:nvPr/>
        </p:nvSpPr>
        <p:spPr>
          <a:xfrm>
            <a:off x="8553240" y="6715800"/>
            <a:ext cx="4155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JASC PAINTSHOP PRO</a:t>
            </a:r>
            <a:endParaRPr b="0" lang="en-US" sz="3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57" name=""/>
          <p:cNvSpPr/>
          <p:nvPr/>
        </p:nvSpPr>
        <p:spPr>
          <a:xfrm>
            <a:off x="5274360" y="7058520"/>
            <a:ext cx="2457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CORELDRAW</a:t>
            </a:r>
            <a:endParaRPr b="0" lang="en-US" sz="3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Lesson Objectives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00000"/>
              </a:lnSpc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46461"/>
                </a:solidFill>
                <a:latin typeface="Helvetica Neue"/>
              </a:rPr>
              <a:t>What:</a:t>
            </a: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 Learn about layers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46461"/>
                </a:solidFill>
                <a:latin typeface="Helvetica Neue"/>
              </a:rPr>
              <a:t>How:</a:t>
            </a: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 Using a graphics package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46461"/>
                </a:solidFill>
                <a:latin typeface="Helvetica Neue"/>
              </a:rPr>
              <a:t>Why: </a:t>
            </a: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undamental principle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Graphics Tutorials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00000"/>
              </a:lnSpc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ollow the link on the VLE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pic>
        <p:nvPicPr>
          <p:cNvPr id="762" name="" descr=""/>
          <p:cNvPicPr/>
          <p:nvPr/>
        </p:nvPicPr>
        <p:blipFill>
          <a:blip r:embed="rId2"/>
          <a:stretch/>
        </p:blipFill>
        <p:spPr>
          <a:xfrm>
            <a:off x="5151600" y="4495680"/>
            <a:ext cx="7256160" cy="4254480"/>
          </a:xfrm>
          <a:prstGeom prst="rect">
            <a:avLst/>
          </a:prstGeom>
          <a:ln w="0">
            <a:noFill/>
          </a:ln>
        </p:spPr>
      </p:pic>
      <p:sp>
        <p:nvSpPr>
          <p:cNvPr id="763" name=""/>
          <p:cNvSpPr/>
          <p:nvPr/>
        </p:nvSpPr>
        <p:spPr>
          <a:xfrm>
            <a:off x="1195920" y="4297320"/>
            <a:ext cx="3429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  <a:ea typeface="Helvetica Neue"/>
              </a:rPr>
              <a:t>Find the tutorial</a:t>
            </a:r>
            <a:endParaRPr b="0" lang="en-US" sz="36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64" name=""/>
          <p:cNvSpPr/>
          <p:nvPr/>
        </p:nvSpPr>
        <p:spPr>
          <a:xfrm>
            <a:off x="1221120" y="5564880"/>
            <a:ext cx="30013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  <a:ea typeface="Helvetica Neue"/>
              </a:rPr>
              <a:t>Click on the </a:t>
            </a:r>
            <a:br>
              <a:rPr sz="3600"/>
            </a:br>
            <a:r>
              <a:rPr b="0" lang="en-US" sz="3600" spc="-1" strike="noStrike">
                <a:solidFill>
                  <a:srgbClr val="646461"/>
                </a:solidFill>
                <a:latin typeface="Helvetica Neue"/>
                <a:ea typeface="Helvetica Neue"/>
              </a:rPr>
              <a:t>right graphics</a:t>
            </a:r>
            <a:br>
              <a:rPr sz="3600"/>
            </a:br>
            <a:r>
              <a:rPr b="0" lang="en-US" sz="3600" spc="-1" strike="noStrike">
                <a:solidFill>
                  <a:srgbClr val="646461"/>
                </a:solidFill>
                <a:latin typeface="Helvetica Neue"/>
                <a:ea typeface="Helvetica Neue"/>
              </a:rPr>
              <a:t>package</a:t>
            </a:r>
            <a:endParaRPr b="0" lang="en-US" sz="36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65" name=""/>
          <p:cNvSpPr/>
          <p:nvPr/>
        </p:nvSpPr>
        <p:spPr>
          <a:xfrm>
            <a:off x="5346720" y="5067360"/>
            <a:ext cx="1270080" cy="749160"/>
          </a:xfrm>
          <a:prstGeom prst="ellipse">
            <a:avLst/>
          </a:prstGeom>
          <a:noFill/>
          <a:ln w="63360">
            <a:solidFill>
              <a:srgbClr val="ff0f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66" name=""/>
          <p:cNvSpPr/>
          <p:nvPr/>
        </p:nvSpPr>
        <p:spPr>
          <a:xfrm>
            <a:off x="9728280" y="5067360"/>
            <a:ext cx="1270080" cy="749160"/>
          </a:xfrm>
          <a:prstGeom prst="ellipse">
            <a:avLst/>
          </a:prstGeom>
          <a:noFill/>
          <a:ln w="63360">
            <a:solidFill>
              <a:srgbClr val="ff0f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67" name=""/>
          <p:cNvSpPr/>
          <p:nvPr/>
        </p:nvSpPr>
        <p:spPr>
          <a:xfrm flipH="1">
            <a:off x="4787640" y="5524560"/>
            <a:ext cx="4787640" cy="785880"/>
          </a:xfrm>
          <a:prstGeom prst="line">
            <a:avLst/>
          </a:prstGeom>
          <a:ln w="50760">
            <a:solidFill>
              <a:srgbClr val="f31818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68" name=""/>
          <p:cNvSpPr/>
          <p:nvPr/>
        </p:nvSpPr>
        <p:spPr>
          <a:xfrm flipH="1" flipV="1">
            <a:off x="4572000" y="4851000"/>
            <a:ext cx="571680" cy="406440"/>
          </a:xfrm>
          <a:prstGeom prst="line">
            <a:avLst/>
          </a:prstGeom>
          <a:ln w="50760">
            <a:solidFill>
              <a:srgbClr val="f31818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School Software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Adobe Fireworks - On all PCs &amp; Macs, not Suns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Adobe Photoshop - On all PCs &amp; Macs, not Suns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GIMP - On all PCs &amp; Macs, not Suns - FREE!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Paint.net - On all PCs &amp; Suns, but not Macs - FREE!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MS Paint - On all PCs &amp; Suns, but not Macs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First task - Layers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00000"/>
              </a:lnSpc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lick on ‘Graphics Tutorials’ on the VLE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hoose the ‘Introduction to Layers’ tutoria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ollow the instructions!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pic>
        <p:nvPicPr>
          <p:cNvPr id="773" name="" descr=""/>
          <p:cNvPicPr/>
          <p:nvPr/>
        </p:nvPicPr>
        <p:blipFill>
          <a:blip r:embed="rId2"/>
          <a:stretch/>
        </p:blipFill>
        <p:spPr>
          <a:xfrm>
            <a:off x="7543800" y="3632040"/>
            <a:ext cx="3009960" cy="1130400"/>
          </a:xfrm>
          <a:prstGeom prst="rect">
            <a:avLst/>
          </a:prstGeom>
          <a:ln w="0">
            <a:noFill/>
          </a:ln>
        </p:spPr>
      </p:pic>
      <p:pic>
        <p:nvPicPr>
          <p:cNvPr id="774" name="" descr=""/>
          <p:cNvPicPr/>
          <p:nvPr/>
        </p:nvPicPr>
        <p:blipFill>
          <a:blip r:embed="rId3"/>
          <a:stretch/>
        </p:blipFill>
        <p:spPr>
          <a:xfrm>
            <a:off x="1638360" y="5511960"/>
            <a:ext cx="9867960" cy="2044440"/>
          </a:xfrm>
          <a:prstGeom prst="rect">
            <a:avLst/>
          </a:prstGeom>
          <a:ln w="0">
            <a:noFill/>
          </a:ln>
        </p:spPr>
      </p:pic>
      <p:sp>
        <p:nvSpPr>
          <p:cNvPr id="775" name=""/>
          <p:cNvSpPr/>
          <p:nvPr/>
        </p:nvSpPr>
        <p:spPr>
          <a:xfrm>
            <a:off x="1523880" y="6184800"/>
            <a:ext cx="8229600" cy="1384560"/>
          </a:xfrm>
          <a:prstGeom prst="ellipse">
            <a:avLst/>
          </a:prstGeom>
          <a:noFill/>
          <a:ln w="76320">
            <a:solidFill>
              <a:srgbClr val="ff0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opyright 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pic>
        <p:nvPicPr>
          <p:cNvPr id="778" name="" descr=""/>
          <p:cNvPicPr/>
          <p:nvPr/>
        </p:nvPicPr>
        <p:blipFill>
          <a:blip r:embed="rId2"/>
          <a:stretch/>
        </p:blipFill>
        <p:spPr>
          <a:xfrm>
            <a:off x="10414080" y="596880"/>
            <a:ext cx="1739880" cy="1739880"/>
          </a:xfrm>
          <a:prstGeom prst="rect">
            <a:avLst/>
          </a:prstGeom>
          <a:ln w="0">
            <a:noFill/>
          </a:ln>
        </p:spPr>
      </p:pic>
      <p:pic>
        <p:nvPicPr>
          <p:cNvPr id="779" name="presentation.ppt_media/animoto_video(2).mov" descr=""/>
          <p:cNvPicPr/>
          <p:nvPr/>
        </p:nvPicPr>
        <p:blipFill>
          <a:blip r:embed="rId3"/>
          <a:stretch/>
        </p:blipFill>
        <p:spPr>
          <a:xfrm>
            <a:off x="368280" y="2222640"/>
            <a:ext cx="12255480" cy="680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reative Commons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1041120" y="23490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00000"/>
              </a:lnSpc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Pictures released under a Creative Commons license can be used legally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‘</a:t>
            </a: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ome rights reserved’ - A flexible license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Look for ‘Attribution, non-commercial, share alike’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is lets you use, and edit, as long as you’re non-commercial and you credit the original artis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pic>
        <p:nvPicPr>
          <p:cNvPr id="782" name="" descr=""/>
          <p:cNvPicPr/>
          <p:nvPr/>
        </p:nvPicPr>
        <p:blipFill>
          <a:blip r:embed="rId2"/>
          <a:stretch/>
        </p:blipFill>
        <p:spPr>
          <a:xfrm>
            <a:off x="10807560" y="9907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83" name="" descr=""/>
          <p:cNvPicPr/>
          <p:nvPr/>
        </p:nvPicPr>
        <p:blipFill>
          <a:blip r:embed="rId3"/>
          <a:stretch/>
        </p:blipFill>
        <p:spPr>
          <a:xfrm>
            <a:off x="3936960" y="7632720"/>
            <a:ext cx="5118120" cy="179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Task 2 - Collect Images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00000"/>
              </a:lnSpc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Make a new folder - ‘8.2’ &gt; ‘Images’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e link on the VLE takes you to a Flickr search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arch for some interesting photos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Go to the full-size version for each one (click on it)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Download to the new folder by right clicking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