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31E-43E0-41A1-B381-F18EC6DB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2A0-9474-4941-A910-F7777F33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3A0-42C2-4048-ADD2-D49C9069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C8E-A056-46DC-87FC-7486FEEA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24C6-3DFB-4964-B968-14E3B216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6D31-6E55-4CA0-9F77-61D6ABD1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5FDD-B652-4E93-95D5-A514BE43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CA80-8CE9-43BA-BB2C-18F82095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6131-FF4E-492D-A60E-B2FD5A19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259D-1CC3-43D2-BC0A-3A3A27B6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C27C-CBA6-4EEA-8D7C-7955449F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930-26D3-4DA8-ACE9-2AAFD90C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4263-7650-4179-8F22-0121007E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AC3E-27D1-4BED-A91D-21186E38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DB78-4722-40F1-B508-02E1E1D6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894D-714C-442A-8389-F9413197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9EBC-DFC0-4140-AB53-3B1CB6E4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F84-9D33-4C2E-899F-CE56A313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C40-769C-46B1-ABFA-AD1053E1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40F-E996-461C-A9D2-5EE2B9E6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BA9-A726-4DBB-9F5B-1E64A9BE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01C-EC8D-465A-9241-59EAF928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863-12A8-46A9-AFCA-E2E1AF6D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BF2-7D33-4AB1-A9AA-52439004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7C9E-3CCA-480B-96DA-6FCE6875F3F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BE30-89DA-4641-96C1-281594E947C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file:///GanttChart.xls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480" y="2361960"/>
            <a:ext cx="37339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rough The Keyhol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76320"/>
            <a:ext cx="167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using company lo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must create a logo for your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using company lo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three logos for your ride using macromedia fire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os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new Power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it as – Propo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screenshot of your Gantt chart and add it onto a new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screenshot of each of your logos and add them to new sl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it important to plan a big proj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chart did we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oftware have we used to create a log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n’t we just use Pa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we need a good log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563640" y="59436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Qu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080" y="59436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eggy &amp; Phil Mitc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159000" y="60199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eorge W. B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nd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a housing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Gantt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rder the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022800" y="2971800"/>
            <a:ext cx="3121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en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cal housing company wants a new housing development.  They have asked you to send in a propos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few weeks they will choose which is the be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724280" y="3998880"/>
            <a:ext cx="44197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os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ill contain all of your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be one big PowerPoint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end of each lesson you will take a screenshot of your work and add it onto a new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age - Pla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jobs need to be done when you create a housing est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on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the ho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dv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many mo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age - Pla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lan we must use a Gantt chart – this will show the all the jobs that need doing, the order, and estimated time sc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ust complete this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Gantt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ll of the jobs in order that you can think of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rk Clarkson</cp:lastModifiedBy>
  <cp:lastPrinted>2009-04-22T19:24:48Z</cp:lastPrinted>
  <dcterms:modified xsi:type="dcterms:W3CDTF">2008-09-24T07:18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