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8A8-82E8-4145-B8E3-FCC679D7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37B-C472-497A-9119-65DF615B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B80-C7F9-47C8-8EF6-702683C1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53C-4B3D-445E-8267-703CD208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66B-B28C-48CB-9AE8-0EF6184A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62AC-B1DB-41B3-A34B-3AF2934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14A-C1F1-46F6-8EB5-880F2CCD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9904-E187-4CFE-B522-3430B017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12A-B222-4254-BC34-66062DFD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D9DC-62B5-4E0C-899F-CCC56172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773-5891-4C53-98D2-1C44471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DC0-F429-4AE9-951B-B08A359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86AA-F8D7-43CB-A491-476B10C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53A-616A-4965-A411-5223EB3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EEF4-8BCA-4811-BA1C-DAEB215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160B-AB02-4C0D-BBC2-87ACB01B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030B-9079-4688-8B41-3919EFE6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9BA-F883-486A-B3CD-19B5014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432-1569-4DFC-98F5-0A31FE47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E56-B370-4752-8F89-74CC363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A62-9176-4068-B86D-14DAD26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0A7-9BB1-4C0B-8BA0-D860A30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289-2B6C-48CF-8CBB-A795730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5AE-A0E4-4307-B42C-6922CD5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C3F-1CCC-4F74-8961-E0291316282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5CC2-FD32-4085-946F-58F11A5CE4A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uess the Value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nd to finish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 use a mind map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else could we plan featur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else could we draw hous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should we do nex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much for this house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2 Bedroo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mi-detatch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aton Car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05520" y="3048120"/>
            <a:ext cx="3809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£125,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4012920" cy="30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much for this house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7 Bedroo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y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nema Ro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catio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ynya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29200" y="3276720"/>
            <a:ext cx="3809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£750,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797280" cy="3222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much for this property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Room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rm… A D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c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helse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76920" y="3581280"/>
            <a:ext cx="3809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£300,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Make a 3D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Using Sketchup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To visualise your proposed ho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deas!!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3 different types of hous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er ho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gal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ive ho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we need for each hom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ind Map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 Freemind or Bubbl.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ke a screenshot and include it in your Proposal PowerPoint fi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7378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reating Hom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 Google Sketchup to create the first of your 3 hou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ke sure to save it regularly, just in cas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9:53:41Z</dcterms:created>
  <dc:creator>Mark Clarkson</dc:creator>
  <dc:description/>
  <dc:language>en-US</dc:language>
  <cp:lastModifiedBy>Mark Clarkson</cp:lastModifiedBy>
  <dcterms:modified xsi:type="dcterms:W3CDTF">2008-09-24T07:08:18Z</dcterms:modified>
  <cp:revision>4</cp:revision>
  <dc:subject/>
  <dc:title>Starter</dc:title>
</cp:coreProperties>
</file>