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38D4-C91E-41E5-9415-2BF901BE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0336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F8F7-7DDE-4586-BFEB-EC5C5C6D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F381-8C74-4BA1-9E57-D98AB296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A458-C39C-4494-A6CF-81F76C666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8B62-CA95-47BF-BC2B-C9730095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33E4-140C-47F9-BEA2-2857B911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1F26-1A77-4730-B07B-235060B6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CFA9-77D7-4285-A65A-054BCCBF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68F5-07D7-4407-B76B-D84E9966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4760" y="8377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1BD8-8F46-432D-99CE-444C8073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EE07-D2CD-4458-98B0-DCC1BBC6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F181-88A1-4898-8B34-38D29B5E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0BBF-EA56-4AFE-A3ED-5513E72A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CD70-E3F6-49AC-B0E3-7B344BD6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0336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5406-AC54-417B-858F-4C71C270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B1A8-7304-432A-B220-34A22542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4E33-BECB-488B-BB99-EE096108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8939-DC30-49D5-A363-59A5734A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8259-F8EC-4C77-9CB2-707E2C9F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D3BA-40E3-40F2-9FA1-4F6B71AB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4760" y="8377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1999-AAB3-446B-A812-44845BCF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2142-C0D3-4DB7-9AEE-E4F4E2D4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8D32-247B-4C4A-890A-BA4EE7BC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8566-C66A-4439-9842-637E4A63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10A5-1A24-4606-B507-14AEBD4DBD66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5960" y="632448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78E3-337E-4DA5-81E8-399F045A0FA1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tarter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12520" y="38858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types of contractor do we need to build our houses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Objectives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at: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Build a financial mode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ow: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Using Microsoft Exce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y: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To see if we can afford it!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What information do we need to know?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types of workers we nee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ir hourly wag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ow much work they need to d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ow long the job will tak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vertime!!!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Before we start: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pen Exc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ools &gt;&gt; Op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Go into the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ecurity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tab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t the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cro Security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to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ediu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ose Exc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he spreadsheet model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Use a formula to complete the highlighted cell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y will go green if they’re right!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y to complete the </a:t>
            </a:r>
            <a:r>
              <a:rPr b="0" i="1" lang="en-US" sz="3200" spc="-1" strike="noStrike">
                <a:solidFill>
                  <a:srgbClr val="000000"/>
                </a:solidFill>
                <a:latin typeface="Trebuchet MS"/>
              </a:rPr>
              <a:t>extensio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task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nly use the </a:t>
            </a:r>
            <a:r>
              <a:rPr b="0" i="1" lang="en-US" sz="3200" spc="-1" strike="noStrike">
                <a:solidFill>
                  <a:srgbClr val="000000"/>
                </a:solidFill>
                <a:latin typeface="Trebuchet MS"/>
              </a:rPr>
              <a:t>hint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if you’re stuck!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one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when you are!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867280" y="4950000"/>
            <a:ext cx="327672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Plenary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else could we model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7:24:34Z</dcterms:created>
  <dc:creator>Mark Clarkson</dc:creator>
  <dc:description/>
  <dc:language>en-US</dc:language>
  <cp:lastModifiedBy>Mark Clarkson</cp:lastModifiedBy>
  <dcterms:modified xsi:type="dcterms:W3CDTF">2008-09-24T07:33:06Z</dcterms:modified>
  <cp:revision>1</cp:revision>
  <dc:subject/>
  <dc:title>Starter</dc:title>
</cp:coreProperties>
</file>