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5F0-14B5-4C9F-BD83-CC97F27B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94F-F8EC-4B95-B05A-7650B1F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D4D-7EB4-4BBE-B149-BCD7E3B5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04D-D212-423D-890E-6E19E75F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460C-5609-44D1-AA9B-895E5988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782-85F3-455D-8562-8C1E6B3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7AE0-DCBA-41D7-9229-4E29647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B889-06C2-49ED-8815-273DBC5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99A-F1AA-466B-AF43-7C50968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AFDB-A182-4C6C-96C5-4C9457A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035-433A-4EF7-8B83-B560489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C4B-E29A-491E-BA92-D11839C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ADC-37B4-4801-9DB5-CC85F75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460-FE00-4549-96F8-41ACE47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176D-3765-45CD-97DF-E67393B8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A1D3-A8A3-44D0-A792-7E34AACF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8BA-49BD-4422-812E-13FBFE57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5E2-4427-4116-A2AF-A5ED8FF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2A9-1265-432E-9B62-5BF34BE1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D1C-4C8C-4C8A-B93A-E98CC234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44E-BAE1-474E-8D9A-85E9792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8BF-1366-4566-9A18-CB617E7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E1C-2449-4D24-890C-CC1F223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AA0-5FCD-4BDB-B963-81F1C67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FDD-88B8-40D1-9712-FE4B3B1393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CC8-1E5F-4DAC-83F8-C369C2383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ad the following stat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5. Why V, R does a 3D Model crea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547640" y="2924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sual Repres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644" t="8529" r="12508" b="34985"/>
          <a:stretch/>
        </p:blipFill>
        <p:spPr>
          <a:xfrm>
            <a:off x="3132000" y="4149720"/>
            <a:ext cx="2818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Johnny Depp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70120" y="3065400"/>
            <a:ext cx="4151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Oevr the psat few lsoesns we hvae been woikrng on a temheprak rdie.  At end of ecah lseosn we hvae tkaen a scerensoht and psated it itno a presentation. In tihs lseosn we need to mkae srue taht yuor presentation is up to dtae and cplemote a slef eulvaaotin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Over the past few lessons we have been working on a themepark ride.  At end of each lesson we have taken a screenshot and pasted it into a presentation.  This lesson we need to make sure that your presentation is up to date and complete a self evaluation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elf Evalua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What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valuate your understa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How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ing Pre-prepared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Why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mportance of ref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nswer the question and then guess the celebrity from the clues giv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of lesson activ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1. What G, C can you use to plan a proj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4382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ntt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42864" t="37666" r="44644" b="43514"/>
          <a:stretch/>
        </p:blipFill>
        <p:spPr>
          <a:xfrm>
            <a:off x="4211640" y="4365720"/>
            <a:ext cx="5191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2. What F, M can you use to help you calculate cost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2421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2864" t="37666" r="28576" b="46195"/>
          <a:stretch/>
        </p:blipFill>
        <p:spPr>
          <a:xfrm>
            <a:off x="4002120" y="4397400"/>
            <a:ext cx="118584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. What M should you create to help raise more money for the rid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637000"/>
            <a:ext cx="36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chand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1085" t="34985" r="28576" b="38126"/>
          <a:stretch/>
        </p:blipFill>
        <p:spPr>
          <a:xfrm>
            <a:off x="4002120" y="4332240"/>
            <a:ext cx="1260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4.What S, F should you always have in a log flume rid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514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fety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7508" t="16139" r="26797" b="38126"/>
          <a:stretch/>
        </p:blipFill>
        <p:spPr>
          <a:xfrm>
            <a:off x="3860640" y="3998880"/>
            <a:ext cx="14828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0:08:40Z</dcterms:created>
  <dc:creator>Michael</dc:creator>
  <dc:description/>
  <dc:language>en-US</dc:language>
  <cp:lastModifiedBy>Michael</cp:lastModifiedBy>
  <dcterms:modified xsi:type="dcterms:W3CDTF">2007-12-04T00:20:10Z</dcterms:modified>
  <cp:revision>2</cp:revision>
  <dc:subject/>
  <dc:title>Read the following statement</dc:title>
</cp:coreProperties>
</file>