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0CC-9890-4354-BEA9-F1797EF0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844-0271-4460-97A2-6EE6AF89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0B3-E1C0-4931-B3BB-95D89B1B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9E0-2FD8-4309-ACF4-FB3DA8A8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56C2-A10E-4F0D-8C6B-D8F0D9C9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9B45-5F36-4204-AEF5-CC763D6D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9973-5376-45ED-8519-A98E8BF3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722F-CFEF-4830-8F73-035EBFF1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8D27-41E8-4629-905E-5BD8678B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BAB5-3F1B-4A79-9D69-35250741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41DF-420F-4830-8211-78B5E0E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D86-52CB-43F1-A4A0-C805BFEF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339F-4C0E-4504-B966-528BC87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3BAB-54B0-4AAF-A7B3-5273E5B3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31CD-B8F2-442E-9ABC-781ACC66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4AFE-E03D-4547-8E72-BCDE923D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0B37-0C64-4E94-A0A6-EAF90DFB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589-CE1F-4962-BE12-07B75409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A55-1543-4A94-9206-DCFEE4B5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E9C-8EB9-4891-A189-5033198B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2C7-8639-4661-BDAD-BA792E3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0F1-49B6-4435-B25D-E6FB93C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2A6-1E64-4392-817E-9D4D477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BAF-D3F3-4BD3-99EB-578DC94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0F07-3F5B-43C3-A795-9549E3E48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6577-43F3-4557-9709-0275C29DE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you fit ten horses into only nine stable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2494080"/>
            <a:ext cx="584280" cy="592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266920" y="2494080"/>
            <a:ext cx="584280" cy="59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916360" y="2494080"/>
            <a:ext cx="583920" cy="59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562200" y="2494080"/>
            <a:ext cx="584280" cy="592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210200" y="2494080"/>
            <a:ext cx="583920" cy="592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859280" y="2494080"/>
            <a:ext cx="584280" cy="592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5506920" y="2494080"/>
            <a:ext cx="584280" cy="592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154560" y="2494080"/>
            <a:ext cx="584280" cy="592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6804000" y="2494080"/>
            <a:ext cx="584280" cy="592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3640" y="2684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268452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2684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2684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684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268452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684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2684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48360" y="268452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6156360" y="4581360"/>
            <a:ext cx="27162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ther than selling tickets, how can your ride make more mone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me par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merchandi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ing Firewor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advertise and increase profi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erchandis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eate professional designs for your merchandi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5640" y="3549600"/>
            <a:ext cx="1871640" cy="1644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71640" y="3622680"/>
            <a:ext cx="1962360" cy="1552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148360" y="3622680"/>
            <a:ext cx="1138320" cy="1606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732720" y="3622680"/>
            <a:ext cx="15382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er review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pload your work to the VLE to rate and review each other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enar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3213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me the tool and where it go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6763E-006 L -0.19671 -0.30589 E">
                                      <p:cBhvr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9308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4072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357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436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enar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127160" cy="6419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16000" y="4695840"/>
            <a:ext cx="542880" cy="504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116000" y="3475080"/>
            <a:ext cx="577800" cy="453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116000" y="1633680"/>
            <a:ext cx="566640" cy="514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1116000" y="2824200"/>
            <a:ext cx="593640" cy="504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1116000" y="4046400"/>
            <a:ext cx="628560" cy="554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116000" y="2252520"/>
            <a:ext cx="490680" cy="427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220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403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40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65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11001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me the tool and where it go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00578E-006 L 0.65469 0.27977 E">
                                      <p:cBhvr>
                                        <p:cTn id="6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78035E-008 L 0.72362 0.50566 E">
                                      <p:cBhvr>
                                        <p:cTn id="7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60116E-006 L 0.65504 0.18705 E">
                                      <p:cBhvr>
                                        <p:cTn id="7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31214E-007 L 0.71233 -0.06358 E">
                                      <p:cBhvr>
                                        <p:cTn id="8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526E-006 L 0.65521 0.2356 E">
                                      <p:cBhvr>
                                        <p:cTn id="9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44509E-006 L 0.65416 -0.32 E">
                                      <p:cBhvr>
                                        <p:cTn id="9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6:10:50Z</dcterms:created>
  <dc:creator>jbamford</dc:creator>
  <dc:description/>
  <dc:language>en-US</dc:language>
  <cp:lastModifiedBy>jbamford</cp:lastModifiedBy>
  <dcterms:modified xsi:type="dcterms:W3CDTF">2007-11-14T18:31:25Z</dcterms:modified>
  <cp:revision>20</cp:revision>
  <dc:subject/>
  <dc:title>Slide 1</dc:title>
</cp:coreProperties>
</file>