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AA73-95F3-4660-881D-16456EA3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7A3E-EFF8-4E1C-806B-0ABADD23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ECF7-1EAE-4A0C-8C4B-785B672F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86FA-911C-456E-90B3-C3F83A18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B84D-9FE7-40D3-B830-D28D97BC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199C-6F5F-4D16-9A4D-02089A64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5DB3-2B2B-4968-8D75-991C3AEB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F8DE-F3E5-4110-902C-2240A621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5E2F-07C8-4E16-8A5E-DE62FB1F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E472-F4C0-463B-9270-5ACB6016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F044-9D2C-42A2-9404-D2C26F27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7D5B-583C-4048-B0D3-6106E265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EAE6-EFDD-4943-B1BD-15D9C5CF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66CD-AF26-49CE-A25B-2D7A4EBA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CD02-5BDF-43A1-9E1C-4F2947BF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F51D-1EAC-46F1-870B-BEBD2345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12F8-EC5B-44B2-8A82-8AD8FE00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DA9D-27D2-46D3-8C25-430C86FA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D067-F650-4AAF-B6B0-15180149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2B52-3AC5-4D6C-86AF-2C849D77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B7D3-C8C2-4F5A-9B29-354AAEED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5F4F-EA18-464D-8E5B-FDAF114A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0778-ECBE-4BBC-80C7-4B51155E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EB27-9609-4679-8936-2BB0EB30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611A-E2A4-4291-9C5E-A2E24FB1DD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9C6F-E891-4577-ABB0-75318065739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ontrolling the Rid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Can you see the wo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2708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INODS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501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Can you see the wo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268360" y="2708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CSER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501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ontrolling the Rid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205000"/>
            <a:ext cx="8686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a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sign a control program for the 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ow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Flow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y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Use control technology effec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’s the correct sequenc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436680" y="1254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ving a sho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9120" y="1778040"/>
            <a:ext cx="2438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t undre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4149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 shower of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1280" y="5511960"/>
            <a:ext cx="28954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t out of sh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70440" y="3540240"/>
            <a:ext cx="2362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sh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75360" y="5435640"/>
            <a:ext cx="2590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 shower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89560" y="2844720"/>
            <a:ext cx="2476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t into sh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7480" y="2349360"/>
            <a:ext cx="293400" cy="1871640"/>
          </a:xfrm>
          <a:prstGeom prst="downArrow">
            <a:avLst>
              <a:gd name="adj1" fmla="val 50000"/>
              <a:gd name="adj2" fmla="val 15947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1680" y="2235240"/>
            <a:ext cx="2133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y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65880" y="4826160"/>
            <a:ext cx="2057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t dre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8393 C -0.27361 -0.25249 -0.52343 -0.42104 -0.61545 -0.45133 E">
                                      <p:cBhvr>
                                        <p:cTn id="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6185E-006 C -0.09896 0.10382 -0.19774 0.20763 -0.28576 0.21156 C -0.37378 0.21549 -0.49583 0.05411 -0.52864 0.02336 E">
                                      <p:cBhvr>
                                        <p:cTn id="1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3445 C -0.1158 0.11283 -0.23108 0.26011 -0.32448 0.26774 C -0.41788 0.27537 -0.52899 0.05387 -0.56094 0.01202 E">
                                      <p:cBhvr>
                                        <p:cTn id="1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2289 C -0.08368 0.04509 -0.16511 0.1133 -0.24653 0.12093 C -0.32795 0.12856 -0.46667 0.04093 -0.49098 0.02359 E">
                                      <p:cBhvr>
                                        <p:cTn id="1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-0.01988 C -0.09219 0.01087 -0.18316 0.04162 -0.22969 0.03075 C -0.27622 0.01989 -0.27778 -0.06612 -0.28039 -0.08555 E">
                                      <p:cBhvr>
                                        <p:cTn id="2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2127 C -0.02917 0.21849 -0.05816 0.45849 -0.15556 0.54312 C -0.25295 0.62774 -0.41858 0.55676 -0.5842 0.48601 E">
                                      <p:cBhvr>
                                        <p:cTn id="2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59 0.0037 C 0.08924 0.07561 0.13907 0.14798 0.04757 0.17873 C -0.04392 0.20948 -0.42361 0.1889 -0.50955 0.18774 E">
                                      <p:cBhvr>
                                        <p:cTn id="3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Symbols in Flowo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16360" y="1960200"/>
            <a:ext cx="35384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/St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2852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89800" y="36878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89800" y="44560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852640"/>
            <a:ext cx="2232360" cy="576360"/>
          </a:xfrm>
          <a:prstGeom prst="flowChartTermina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3860640"/>
            <a:ext cx="2016360" cy="71928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5013360"/>
            <a:ext cx="2303640" cy="649080"/>
          </a:xfrm>
          <a:prstGeom prst="flowChartInputOutpu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1773360"/>
            <a:ext cx="1944720" cy="64764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8200" y="1773360"/>
            <a:ext cx="244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2781360"/>
            <a:ext cx="244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11280" y="3933720"/>
            <a:ext cx="24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2560" y="5084640"/>
            <a:ext cx="24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2.02312E-006 L -0.33074 -0.2726 E">
                                      <p:cBhvr>
                                        <p:cTn id="36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4417 L -0.31198 0.1281 E">
                                      <p:cBhvr>
                                        <p:cTn id="4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13873E-006 L -0.31111 -0.06751 E">
                                      <p:cBhvr>
                                        <p:cTn id="4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87283E-006 L -0.31094 0.33387 E">
                                      <p:cBhvr>
                                        <p:cTn id="4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as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control program for each stage of the r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t screen each stage into your Project Present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group all the stages (subroutines) into one control progr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the that the program wor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t screen the whole program into your Project Presentation and upload to the V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nd of Lesson Activi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3645000"/>
            <a:ext cx="42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cramble the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Can you see the wo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268360" y="2708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LOOW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501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LOW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Can you see the wo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2708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UUSEINTOR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5084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BROU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Can you see the wo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2708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ACM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501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3:18:24Z</dcterms:created>
  <dc:creator>Michael</dc:creator>
  <dc:description/>
  <dc:language>en-US</dc:language>
  <cp:lastModifiedBy>Michael</cp:lastModifiedBy>
  <dcterms:modified xsi:type="dcterms:W3CDTF">2007-12-02T23:32:11Z</dcterms:modified>
  <cp:revision>3</cp:revision>
  <dc:subject/>
  <dc:title>Controlling the Ride</dc:title>
</cp:coreProperties>
</file>